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951C6-CA60-4C95-8D6A-F5267A44F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E459A-2A3F-444D-B457-5791E2106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02A3F-6C97-4A4E-AD89-804693593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20C7F-8D7B-4DE0-9E7F-EE4E56D3C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477D9-4A80-4891-8183-0AD45DD303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A5E86-9DF3-453B-B5A6-2C0286362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3571E-BD93-40A3-9D80-CE5DD64AD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6A10E-80F8-43AC-BA52-E94B2111E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A3CBC-21EA-4F97-B97A-B033E0426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DF591-0218-4550-8F61-D0102758D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53B1B-4D62-4053-B469-8C2FB495F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DAF71-8B47-4DD3-B5E9-55B7C134E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8AE6A-C69D-442C-9F81-02EFAB6F0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66F10-D46E-4696-8018-714CDE996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AADF0-D299-4939-9C20-5172C57DB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493082-D4B6-4919-ABA5-470E91EE4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7F9C8-1CA6-4D4F-9F8B-299B1C531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FE0DF-BFAB-49AD-835C-C332B89F1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18DF5-4FAF-497D-96B8-6B9DE4884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E3E3B-6B0C-44C9-9055-32B9A9223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A2413-9629-4B57-9D8F-C0FA0283F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B9D83-E599-4FE0-9FA6-C874E868A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BEC73-9927-462E-ACB0-02B48056C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E5BA0-8618-48CC-93E5-E6243F5AC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AD56C-009A-4624-8A9D-990DAC5CF7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F06BD-B062-4E6B-B6B9-7DFC73D07D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peakingoffaith.publicradio.org/programs/listeninggenerously/"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EP101 Unit 7:</a:t>
            </a:r>
            <a:r>
              <a:rPr b="0" lang="en-US" sz="5400" spc="-1" strike="noStrike">
                <a:solidFill>
                  <a:srgbClr val="ffffcc"/>
                </a:solidFill>
                <a:latin typeface="Tahoma"/>
              </a:rPr>
              <a:t>  The Importance of Communication</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lease have your book nearb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Feel free to chat with each other.</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We will start class at 9 PM 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nit 7 Project</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raprofessional educators must respond to the need for effective communication between all members of a student’s educational team. In a one- to two-page essay (double-spaced, Arial or Times New Roman font, 12 pt.) OR a in a Power Point presentation (see format provided), write about your impressions of what a good communication plan between home, school and student would look like. This can be for any grade level. Reinforce your rationale with citations from this week’s unit.  Some things you might consider:</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Who should be included in this plan?</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How can you be sure your plan provides frequent updates?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How can you include positive feedback as well as issues that need to be addressed?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As your expectations for and attitudes about students have an influence on their success, how will you be aware of this as you communicate with them?</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How can you involve parents in the classroom?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How should your communication plan include your interactions with your supervising teacher?</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erences</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tress (1999).  Listening:  A Vital Skill.  </a:t>
            </a:r>
            <a:r>
              <a:rPr b="0" i="1" lang="en-US" sz="2400" spc="-1" strike="noStrike">
                <a:solidFill>
                  <a:srgbClr val="ffffff"/>
                </a:solidFill>
                <a:latin typeface="Tahoma"/>
              </a:rPr>
              <a:t>Journal of Instructional Psychology</a:t>
            </a:r>
            <a:r>
              <a:rPr b="0" lang="en-US" sz="2400" spc="-1" strike="noStrike">
                <a:solidFill>
                  <a:srgbClr val="ffffff"/>
                </a:solidFill>
                <a:latin typeface="Tahoma"/>
              </a:rPr>
              <a:t>, 26,  261.</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TA issues standards for parent involvement in education.  </a:t>
            </a:r>
            <a:r>
              <a:rPr b="0" i="1" lang="en-US" sz="2400" spc="-1" strike="noStrike">
                <a:solidFill>
                  <a:srgbClr val="ffffff"/>
                </a:solidFill>
                <a:latin typeface="Tahoma"/>
              </a:rPr>
              <a:t>Reading Today</a:t>
            </a:r>
            <a:r>
              <a:rPr b="0" lang="en-US" sz="2400" spc="-1" strike="noStrike">
                <a:solidFill>
                  <a:srgbClr val="ffffff"/>
                </a:solidFill>
                <a:latin typeface="Tahoma"/>
              </a:rPr>
              <a:t>, 14, 16.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lloch, Kathleen L. (2003). Home-School Communications.  </a:t>
            </a:r>
            <a:r>
              <a:rPr b="0" i="1" lang="en-US" sz="2400" spc="-1" strike="noStrike">
                <a:solidFill>
                  <a:srgbClr val="ffffff"/>
                </a:solidFill>
                <a:latin typeface="Tahoma"/>
              </a:rPr>
              <a:t>Education Oasis</a:t>
            </a:r>
            <a:r>
              <a:rPr b="0" lang="en-US" sz="2400" spc="-1" strike="noStrike">
                <a:solidFill>
                  <a:srgbClr val="ffffff"/>
                </a:solidFill>
                <a:latin typeface="Tahoma"/>
              </a:rPr>
              <a:t>, retrieved January 20, 2008, from http://www.educationoasis.com/instruction/bt/home-school_communication.ht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ight’s Quote</a:t>
            </a:r>
            <a:endParaRPr b="0" lang="en-US" sz="4400" spc="-1" strike="noStrike">
              <a:solidFill>
                <a:srgbClr val="ffffcc"/>
              </a:solidFill>
              <a:latin typeface="Tahoma"/>
            </a:endParaRPr>
          </a:p>
        </p:txBody>
      </p:sp>
      <p:sp>
        <p:nvSpPr>
          <p:cNvPr id="91" name=""/>
          <p:cNvSpPr txBox="1"/>
          <p:nvPr/>
        </p:nvSpPr>
        <p:spPr>
          <a:xfrm>
            <a:off x="457200" y="1600200"/>
            <a:ext cx="8229600" cy="449568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t>
            </a:r>
            <a:r>
              <a:rPr b="0" i="1" lang="en-US" sz="2800" spc="-1" strike="noStrike">
                <a:solidFill>
                  <a:srgbClr val="ffffff"/>
                </a:solidFill>
                <a:latin typeface="Tahoma"/>
              </a:rPr>
              <a:t>The most basic and powerful way to connect to another person is to listen. Just listen. Perhaps the most important thing we ever give each other is our attention…. A loving silence often has far more power to heal and to connect than the most well-intentioned words.”</a:t>
            </a:r>
            <a:endParaRPr b="0" lang="en-US" sz="28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1"/>
              </a:rPr>
              <a:t>RACHEL NAOMI REMEN</a:t>
            </a:r>
            <a:endParaRPr b="0" lang="en-US" sz="24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Advantages to Good Communication</a:t>
            </a:r>
            <a:endParaRPr b="0" lang="en-US" sz="36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Tahoma"/>
              </a:rPr>
              <a:t>“</a:t>
            </a:r>
            <a:r>
              <a:rPr b="0" i="1" lang="en-US" sz="3200" spc="-1" strike="noStrike">
                <a:solidFill>
                  <a:srgbClr val="ff9900"/>
                </a:solidFill>
                <a:latin typeface="Tahoma"/>
              </a:rPr>
              <a:t>Communication is the process by which any message is given or received through talking, writing, or making gestures.” (wikipedia.co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r expecta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olution of probl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th parties feel respect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a:rPr>
              <a:t>Listening Strategies</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Body language</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ye contac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n into, rather than away from, speaker</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fidgeting</a:t>
            </a:r>
            <a:endParaRPr b="0" lang="en-US" sz="24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Active listening</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aphrase what speaker said</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k questions for clarification</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 constructive feedback</a:t>
            </a:r>
            <a:endParaRPr b="0" lang="en-US" sz="24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Goal:  to reduce misunderstandings</a:t>
            </a:r>
            <a:endParaRPr b="0" lang="en-US" sz="2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tres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unication with </a:t>
            </a:r>
            <a:r>
              <a:rPr b="0" lang="en-US" sz="4400" spc="-1" strike="noStrike">
                <a:solidFill>
                  <a:srgbClr val="ffcc66"/>
                </a:solidFill>
                <a:latin typeface="Tahoma"/>
              </a:rPr>
              <a:t>Students</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Wh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ear expectations, rules, and procedure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questioning and dialogue</a:t>
            </a:r>
            <a:endParaRPr b="0" lang="en-US" sz="2400" spc="-1" strike="noStrike">
              <a:solidFill>
                <a:srgbClr val="ffffff"/>
              </a:solidFill>
              <a:latin typeface="Tahoma"/>
            </a:endParaRPr>
          </a:p>
        </p:txBody>
      </p:sp>
      <p:sp>
        <p:nvSpPr>
          <p:cNvPr id="98"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How?</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Verbal:</a:t>
            </a:r>
            <a:r>
              <a:rPr b="0" lang="en-US" sz="2400" spc="-1" strike="noStrike">
                <a:solidFill>
                  <a:srgbClr val="ffffff"/>
                </a:solidFill>
                <a:latin typeface="Tahoma"/>
              </a:rPr>
              <a:t>  addressing whole class or individual stud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Written:</a:t>
            </a:r>
            <a:r>
              <a:rPr b="0" lang="en-US" sz="2400" spc="-1" strike="noStrike">
                <a:solidFill>
                  <a:srgbClr val="ffffff"/>
                </a:solidFill>
                <a:latin typeface="Tahoma"/>
              </a:rPr>
              <a:t>  notes, grades, directi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Body language:</a:t>
            </a:r>
            <a:r>
              <a:rPr b="0" lang="en-US" sz="2400" spc="-1" strike="noStrike">
                <a:solidFill>
                  <a:srgbClr val="ffffff"/>
                </a:solidFill>
                <a:latin typeface="Tahoma"/>
              </a:rPr>
              <a:t>  facial expressions, proximity, signa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unication with </a:t>
            </a:r>
            <a:r>
              <a:rPr b="0" lang="en-US" sz="4400" spc="-1" strike="noStrike">
                <a:solidFill>
                  <a:srgbClr val="ffcc66"/>
                </a:solidFill>
                <a:latin typeface="Tahoma"/>
              </a:rPr>
              <a:t>Parents</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4038480" cy="4495680"/>
          </a:xfrm>
          <a:prstGeom prst="rect">
            <a:avLst/>
          </a:prstGeom>
          <a:noFill/>
          <a:ln w="0">
            <a:noFill/>
          </a:ln>
        </p:spPr>
        <p:txBody>
          <a:bodyPr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Why?</a:t>
            </a:r>
            <a:endParaRPr b="0" lang="en-US" sz="2800" spc="-1" strike="noStrike">
              <a:solidFill>
                <a:srgbClr val="ffffff"/>
              </a:solidFill>
              <a:latin typeface="Tahoma"/>
            </a:endParaRPr>
          </a:p>
          <a:p>
            <a:pPr lvl="1" marL="720720" indent="-27720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rent involvement is </a:t>
            </a:r>
            <a:r>
              <a:rPr b="0" lang="en-US" sz="2000" spc="-1" strike="noStrike">
                <a:solidFill>
                  <a:srgbClr val="ff9900"/>
                </a:solidFill>
                <a:latin typeface="Tahoma"/>
              </a:rPr>
              <a:t>key to student’s success</a:t>
            </a:r>
            <a:endParaRPr b="0" lang="en-US" sz="2000" spc="-1" strike="noStrike">
              <a:solidFill>
                <a:srgbClr val="ffffff"/>
              </a:solidFill>
              <a:latin typeface="Tahoma"/>
            </a:endParaRPr>
          </a:p>
          <a:p>
            <a:pPr lvl="1" marL="720720" indent="-27720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eeps them </a:t>
            </a:r>
            <a:r>
              <a:rPr b="0" lang="en-US" sz="2000" spc="-1" strike="noStrike">
                <a:solidFill>
                  <a:srgbClr val="ff9900"/>
                </a:solidFill>
                <a:latin typeface="Tahoma"/>
              </a:rPr>
              <a:t>informed</a:t>
            </a:r>
            <a:r>
              <a:rPr b="0" lang="en-US" sz="2000" spc="-1" strike="noStrike">
                <a:solidFill>
                  <a:srgbClr val="ffffff"/>
                </a:solidFill>
                <a:latin typeface="Tahoma"/>
              </a:rPr>
              <a:t> of their child’s progress and activities at school</a:t>
            </a:r>
            <a:endParaRPr b="0" lang="en-US" sz="2000" spc="-1" strike="noStrike">
              <a:solidFill>
                <a:srgbClr val="ffffff"/>
              </a:solidFill>
              <a:latin typeface="Tahoma"/>
            </a:endParaRPr>
          </a:p>
          <a:p>
            <a:pPr lvl="1" marL="720720" indent="-27720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ts students know that all parties have a </a:t>
            </a:r>
            <a:r>
              <a:rPr b="0" lang="en-US" sz="2000" spc="-1" strike="noStrike">
                <a:solidFill>
                  <a:srgbClr val="ff9900"/>
                </a:solidFill>
                <a:latin typeface="Tahoma"/>
              </a:rPr>
              <a:t>vested interest</a:t>
            </a:r>
            <a:r>
              <a:rPr b="0" lang="en-US" sz="2000" spc="-1" strike="noStrike">
                <a:solidFill>
                  <a:srgbClr val="ffffff"/>
                </a:solidFill>
                <a:latin typeface="Tahoma"/>
              </a:rPr>
              <a:t> in their educational success</a:t>
            </a:r>
            <a:endParaRPr b="0" lang="en-US" sz="2000" spc="-1" strike="noStrike">
              <a:solidFill>
                <a:srgbClr val="ffffff"/>
              </a:solidFill>
              <a:latin typeface="Tahom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07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07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Reading Today)</a:t>
            </a:r>
            <a:endParaRPr b="0" lang="en-US" sz="2000" spc="-1" strike="noStrike">
              <a:solidFill>
                <a:srgbClr val="ffffff"/>
              </a:solidFill>
              <a:latin typeface="Tahom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1" name="PlaceHolder 3"/>
          <p:cNvSpPr>
            <a:spLocks noGrp="1"/>
          </p:cNvSpPr>
          <p:nvPr>
            <p:ph/>
          </p:nvPr>
        </p:nvSpPr>
        <p:spPr>
          <a:xfrm>
            <a:off x="4648320" y="1600200"/>
            <a:ext cx="4038480" cy="4495680"/>
          </a:xfrm>
          <a:prstGeom prst="rect">
            <a:avLst/>
          </a:prstGeom>
          <a:noFill/>
          <a:ln w="0">
            <a:noFill/>
          </a:ln>
        </p:spPr>
        <p:txBody>
          <a:bodyPr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How?</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Written</a:t>
            </a:r>
            <a:r>
              <a:rPr b="0" lang="en-US" sz="2400" spc="-1" strike="noStrike">
                <a:solidFill>
                  <a:srgbClr val="ffffff"/>
                </a:solidFill>
                <a:latin typeface="Tahoma"/>
              </a:rPr>
              <a:t> notes, emails, newsletters, progress reports, report cards</a:t>
            </a:r>
            <a:endParaRPr b="0" lang="en-US" sz="24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Phone calls</a:t>
            </a:r>
            <a:endParaRPr b="0" lang="en-US" sz="24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In person:</a:t>
            </a:r>
            <a:r>
              <a:rPr b="0" lang="en-US" sz="2400" spc="-1" strike="noStrike">
                <a:solidFill>
                  <a:srgbClr val="ffffff"/>
                </a:solidFill>
                <a:latin typeface="Tahoma"/>
              </a:rPr>
              <a:t>  conference, open house, classroom volunteer, parent workshops</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35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lloch)</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unication with </a:t>
            </a:r>
            <a:r>
              <a:rPr b="0" lang="en-US" sz="4400" spc="-1" strike="noStrike">
                <a:solidFill>
                  <a:srgbClr val="ffcc66"/>
                </a:solidFill>
                <a:latin typeface="Tahoma"/>
              </a:rPr>
              <a:t>Colleagues</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Wh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re instructional idea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nicate schoolwide expectati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nicate about individual student progress</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4"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How?</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Written:</a:t>
            </a:r>
            <a:r>
              <a:rPr b="0" lang="en-US" sz="2400" spc="-1" strike="noStrike">
                <a:solidFill>
                  <a:srgbClr val="ffffff"/>
                </a:solidFill>
                <a:latin typeface="Tahoma"/>
              </a:rPr>
              <a:t>  letters, email</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Verbal:</a:t>
            </a:r>
            <a:r>
              <a:rPr b="0" lang="en-US" sz="2400" spc="-1" strike="noStrike">
                <a:solidFill>
                  <a:srgbClr val="ffffff"/>
                </a:solidFill>
                <a:latin typeface="Tahoma"/>
              </a:rPr>
              <a:t>  school wide meetings, grade level meetings, individual discussions</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ahoma"/>
              </a:rPr>
              <a:t>Implications for Paraprofessionals</a:t>
            </a:r>
            <a:endParaRPr b="0" lang="en-US" sz="40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le model good listening and communicating for your studen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professionalism and remember confidentiality when discussing studen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tain good communication with your supervis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eekly Reminders</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reading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ew Web Resource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icipate in Discussion Board</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 answers to BOTH discussion questions in an “essay-like” format, including references where applicable</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your classmates’ posts per discussion question</a:t>
            </a:r>
            <a:endParaRPr b="0" lang="en-US" sz="24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end Seminar or complete Option 2</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Unit 7 Projec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 on Final Projec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01:14:34Z</dcterms:created>
  <dc:creator> </dc:creator>
  <dc:description/>
  <dc:language>en-US</dc:language>
  <cp:lastModifiedBy>Joyce Jones</cp:lastModifiedBy>
  <dcterms:modified xsi:type="dcterms:W3CDTF">2009-05-27T00:24:33Z</dcterms:modified>
  <cp:revision>16</cp:revision>
  <dc:subject/>
  <dc:title>EP101 Unit 7:  The Importance of Communication</dc:title>
</cp:coreProperties>
</file>